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183-14EB-4F5E-AD33-30A96DCC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773-8C8C-48C7-9617-FEAE3E4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366-8386-431D-8014-F170A59C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BC7-2F1C-4E89-8EF2-527B4D21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BCE-EA01-4E9F-BA09-419CAD5F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E9FB-5DE9-47E0-8516-4AC3FE7E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938C-E99E-4D91-9A6E-251B0D6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0240-719B-4305-8CCC-D3E1E3EB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B0B2-BA72-46B8-8617-17BE4E8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EE7-649E-456E-8FAB-D5F132C4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0582-C66D-4D49-BE6E-F664530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438-6A34-4571-8FB3-B384D972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784D-1538-4FA2-9C84-5216EFB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AEFB-8E13-4CE5-8453-DD5C331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0CB-5A13-45C4-B22D-B4C12085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0B0-F853-4293-9FB7-3A6F0030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380F-0B0B-4C47-A458-13CFF42D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DE371-21D9-4A86-9898-0896E0F5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47DBC-9B44-4552-83BE-6A2ED91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7C815-A080-4687-BAE8-6C701747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CD88A-1485-49EA-A937-998799F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BA7C5-EA5A-4CB7-A031-DD6A383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199-BE6C-41E2-AC56-4769E12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08B00-D44B-4804-8D24-6BE659C1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36AAA-60B4-412C-BDEC-D79EAD3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AE0ED-0973-4E22-847B-134B63C1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5E41E-0E64-4975-84F5-4A64BEA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04B49-2E36-4E44-B056-DD24662D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6C2BB-1C7B-42F7-8A25-CEC80954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EE565-4E38-4815-A593-0A579D38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4452-8250-4DB3-A124-ECF5CDD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7B48-CD64-471C-8E39-75D6F3B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0117-159C-452C-BA34-E2BCF332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F41-B86C-4496-BF1E-B0232A1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3F0F-0AE9-4831-93E5-FB7B3750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85C7-D7C2-423A-BC50-2C2EA59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07F4-F6CA-4AD6-BB0B-7094073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EA7D-49C6-48E4-A05B-77F5C84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FF74-E1A6-4FF8-8AF0-003ABBF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40DB-C9E3-45AC-8371-4BD472AE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2F64-D5B4-4F84-8949-788BC05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63B6-A323-4D2A-ADDF-F805520D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C563-2D2F-4D95-84DC-78CB2345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1E4E9-6496-43DE-A7CD-4D1D8BB6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D8D-0629-4049-B7CC-DF7A0E2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06F52-79DB-49AC-80C5-048DC088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12A57-158C-4BD2-816D-DDC8CDF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EC00B-B4BD-494F-83E3-585363E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09259-197C-4013-A65F-5064685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A0B0A-4983-43E7-8F41-5934002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8941C-F824-4A62-B6D0-D303E87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27DE9-CC8C-4951-89E4-146021F0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B0E25-302C-4A7E-BA0A-A824BE6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A8CF5-2116-4EB4-B3B1-936355EF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CD21C-86F8-4821-8C86-5C185E52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2BE-4400-4676-9394-F09CC17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8EA93-4E97-4923-BD95-E5DC7085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D8728-2010-48CE-AB87-40B0DE8A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0FF2B-2FA1-4D0B-92AA-1B681373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5F920-0CA0-41A0-8D01-CD6ACDE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527D5-D968-46D5-8D88-0127A096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88C43-5450-419B-BBD1-8127E904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A6C83-7FB7-471C-AAED-44450D9C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F55DC-B50D-4079-855A-138DDFD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08495-B197-473C-AFA7-D792F57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FF144-ED1D-4BB4-AFD6-57D8EA0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5AD-3B96-43EF-AD5B-8C7E549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F1552-4170-4309-9B13-FA9D9AF5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C8DA4-F74F-434B-9F93-BF9AABB6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BB41A-8CF9-468E-B75C-4C1E944B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78CF2-3DD1-4387-9661-5EDE9044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76F7C-3947-4945-96F5-5C47703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36C7B-981E-4221-9A66-A56E877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37132-9952-471F-91A5-E41AF9C8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288E6-533C-4E3D-A444-B26E766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250B0-18BF-47BB-8836-518B2AD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5FC44-6746-4948-9D1A-87F3D47D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27B-7756-429A-89A1-8D2C01A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ECF70-2452-4FB8-BAE8-3B6D8E5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DBB9E-F5A4-4672-9B8B-57801EB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9E2F1-231D-4AA3-BBDB-9FAC6DE9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1C592-9CD1-41F4-A5BC-9F7E384B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F4C2F-5FA1-4FEC-837C-94A580B6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BA9-FE27-4D93-8AD6-210EEDB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08BAE-4902-4669-AAF9-CBD41B0BF4B7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8AC5C-979B-493E-A1E8-D9D522792B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67CC9-7F10-4F90-8162-E268260F6399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39398-2953-4119-99C1-042D28B2FA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7E354-784E-4453-A9AB-CEC254D8C078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0D9A5-916F-4558-BAE4-212275DE0FC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e7dec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0C1F0-42B7-4820-82AF-E90641E4BAD1}" type="datetime">
              <a:rPr b="0" lang="en-US" sz="1200" spc="-1" strike="noStrike">
                <a:solidFill>
                  <a:srgbClr val="e7dec9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80962-90D5-4E26-8B0F-DD56FD339D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90481-7247-4250-97B1-B7A4FA3628B5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EA325-1B06-4F45-91DE-AB0C864374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6F539-8160-45A8-8A0C-336DFBB094E7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867AE-9956-40F7-B47F-3A6D8A2BF9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4f271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E7598-8DA9-4428-BFEB-679F11B449A3}" type="datetime">
              <a:rPr b="0" lang="en-US" sz="1200" spc="-1" strike="noStrike">
                <a:solidFill>
                  <a:srgbClr val="4f271c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AB43F-02BE-49F9-8AB0-E746F2AA4F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6</a:t>
            </a:r>
            <a:r>
              <a:rPr b="1" lang="en-US" sz="4300" spc="-1" strike="noStrike" baseline="30000">
                <a:solidFill>
                  <a:srgbClr val="4f271c"/>
                </a:solidFill>
                <a:latin typeface="Century Schoolbook"/>
              </a:rPr>
              <a:t>TH</a:t>
            </a: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 GRADE </a:t>
            </a:r>
            <a:br>
              <a:rPr sz="4300"/>
            </a:b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SCIENCE FAIR:</a:t>
            </a: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4f271c"/>
                </a:solidFill>
                <a:latin typeface="Century Schoolbook"/>
              </a:rPr>
              <a:t>RESEARCHING WITH THE </a:t>
            </a:r>
            <a:r>
              <a:rPr b="1" lang="en-US" sz="4300" spc="-1" strike="noStrike" u="sng">
                <a:solidFill>
                  <a:srgbClr val="4f271c"/>
                </a:solidFill>
                <a:uFillTx/>
                <a:latin typeface="Century Schoolbook"/>
              </a:rPr>
              <a:t>INTERNET</a:t>
            </a:r>
            <a:endParaRPr b="0" lang="en-US" sz="43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FACTS ABOUT THE INTERNE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ONE can publish on the Interne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ou must evaluate a website to decide whether it is TRUSTWORTHY or no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by exami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quality of the desig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urpose of the s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en it was last updat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the author or host of the site is an expert or trustworthy source of informa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DO NOT…</a:t>
            </a:r>
            <a:endParaRPr b="0" lang="en-US" sz="44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Use Google to find a website first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Use a Wikipedia artic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WEB DIRECTORIES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et Public Library (ipl2) - www.ipl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Stuff Works - www.howstuffworks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n Directory Project - www.dmoz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ld Book Encyclopedia Online - Website sugges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RESEARCH PLAN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arch for a website on your topic using your keywor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valuate the website to decide if it is trustworthy and useful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py down its citation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LETS BEGIN!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you can’t find a website raise your hand and we’ll use advanced search techniques to locate a good website for researc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22:50:13Z</dcterms:created>
  <dc:creator>Paul Hummel</dc:creator>
  <dc:description/>
  <dc:language>en-US</dc:language>
  <cp:lastModifiedBy>Paul Hummel</cp:lastModifiedBy>
  <dcterms:modified xsi:type="dcterms:W3CDTF">2012-02-02T23:32:37Z</dcterms:modified>
  <cp:revision>8</cp:revision>
  <dc:subject/>
  <dc:title>6TH Grade  Science Fair:  Researching with  Internet</dc:title>
</cp:coreProperties>
</file>